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E33-7F50-4EF1-90E0-28ADDBBC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E9A-1758-4A68-9AF4-2C43BA89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0A8-FDAD-45E4-8B0D-86E63218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442-D323-4C4B-931E-C4C06F98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BB4-A00F-4964-B8D2-0805F446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82A-B40E-415D-B937-F2DF55F0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C2F-D261-433D-B345-C7DD3542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595-D60C-45C9-A0F4-40402310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5F9-006D-48B5-886A-C1935B19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0EF-F362-43FC-8D1F-AB94FBDC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228-960C-45CB-B048-1627215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723-5890-445D-8115-D6E1C20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45A5-03B6-4754-B2A1-8FA84602D1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6F7D-38C8-43E6-A06A-12554BA8276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TextBox 5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ο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l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000680" y="1992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(she, it) is taking (recei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000680" y="24922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0006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400068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01328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4013280" y="4454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un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033800" y="49798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02732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ουσι(ν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03848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ο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F2A4C85B-03D7-483B-9050-0BEF94F64EC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8" name="TextBox 3"/>
          <p:cNvSpPr/>
          <p:nvPr/>
        </p:nvSpPr>
        <p:spPr>
          <a:xfrm>
            <a:off x="-130320" y="208080"/>
            <a:ext cx="90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1" lang="el-GR" sz="36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1" lang="en-GB" sz="3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ι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ηρου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are spe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i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s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38624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386240" y="2492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3228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(she, it) is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386240" y="349236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keep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4398840" y="3967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am s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398840" y="44546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4419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41324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442440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ει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FD3DB388-DA12-4D70-B623-64DE366478D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73" name="TextBox 3"/>
          <p:cNvSpPr/>
          <p:nvPr/>
        </p:nvSpPr>
        <p:spPr>
          <a:xfrm>
            <a:off x="-604800" y="227160"/>
            <a:ext cx="928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428760" y="13572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case and number are the following words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071720" y="207180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γε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ρα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υἱ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χ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000680" y="21207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000680" y="2620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000680" y="3121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000680" y="3621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4013280" y="40957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4013280" y="45831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4033800" y="51084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4027320" y="5583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2EC157A0-420C-48F0-9E81-D039BBCA0D2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7" name="TextBox 3"/>
          <p:cNvSpPr/>
          <p:nvPr/>
        </p:nvSpPr>
        <p:spPr>
          <a:xfrm>
            <a:off x="-282600" y="208080"/>
            <a:ext cx="862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57120" y="125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14200" y="1714680"/>
            <a:ext cx="47865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 διδασκει ὀχ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ουμεν ἀρ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υς 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ος λεγει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ι κα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γελοι τηρουσιν νομ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brother sees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are wa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love a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l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425840" y="177948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brother is teaching cro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425840" y="2279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425840" y="277956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are untying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4425840" y="32796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lord says a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4425840" y="3780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ople are cal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4425840" y="42800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s are keeping la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4425840" y="47800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δελφος βλεπει οἰκ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4425840" y="52801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θρωποι βλεπουσιν.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4425840" y="57722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μεν κοσμ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4417920" y="62150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ος ἀγει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FF02A68E-1900-4B94-B196-118D96F72D5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03" name="TextBox 4"/>
          <p:cNvSpPr/>
          <p:nvPr/>
        </p:nvSpPr>
        <p:spPr>
          <a:xfrm>
            <a:off x="-130320" y="208080"/>
            <a:ext cx="906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1120" y="1906560"/>
            <a:ext cx="478656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ἐχουσιν οἰ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ιτε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ποιει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ει ἀγγελος ὀχλ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seeking the Messiah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s are speaking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eople love God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36716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s have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367160" y="2500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are calling a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4289400" y="29923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making the heav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39272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angel is leading crow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39272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is list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392720" y="445464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ζητουμεν τον Χρισ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392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υἱοι λαλουσιν λογους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392720" y="545472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ανθρωποι φιλ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θεον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8D7484DE-69D6-44A4-85CD-30C1124F38E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1:05:07Z</dcterms:created>
  <dc:creator>Sarah</dc:creator>
  <dc:description/>
  <dc:language>en-US</dc:language>
  <cp:lastModifiedBy>Sarah</cp:lastModifiedBy>
  <dcterms:modified xsi:type="dcterms:W3CDTF">2009-03-02T22:54:59Z</dcterms:modified>
  <cp:revision>47</cp:revision>
  <dc:subject/>
  <dc:title>Slide 1</dc:title>
</cp:coreProperties>
</file>